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14.png" ContentType="image/png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99D-323E-4EBE-8EB9-EFA7B28A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23C-D696-4319-87BD-BDD412EB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A80-8686-46B5-8B90-0B581B27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023-EF99-40E7-B29F-88F1C7C5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FF2-B2BF-4DD9-9D91-DA54EA1B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0F17-9C19-46EB-8B5C-1139CBA5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E7A-EC61-4D49-94BD-73F67294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0E6-20D7-40D2-BA67-B5D89DF7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1F09-49DD-4A31-AEFA-4D0D5185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9F6A-08B5-46FE-914C-C2189F0D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D85-1319-4A40-A751-C61C052B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7D9C-3B20-4152-90E6-623248D5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2CBE-8C57-492B-903C-66A9B983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78A8-83EC-4EC8-8D95-BBDE3A1E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604-6BA6-42C0-B68F-E815BD0A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1B84-298D-4D54-B982-ED5B1975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ADCB-A643-44AF-9D30-F999B1387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0AE-C5BF-4520-99A9-E8B17F2D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C863-08EE-4E8E-A30B-2CF64D0C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601-436D-4A8E-9A23-388B5AB2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DAC-6894-4E0C-B38E-5A5496DF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71BC-F18C-4C9E-9B61-C6FED6D2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B26-C778-4C0E-8C93-D095EFE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CEC-99A7-4A8E-AD65-42701EE4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0D2-E462-478B-B414-0B7CE54A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15-7106-42F2-8766-7DE0FD20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8E4-3608-4458-A6B7-D13888B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AD1-F3D7-41AB-A948-8799116F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6F5-6389-477A-945A-02EFBA34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8FC-C287-409A-A82D-4369E5C5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DCE-5E7B-4612-A928-E6756CEC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B45-AE0C-4DEF-A484-7B8EA78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4F7-27D4-402E-9214-2A37602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1C2-33B7-442F-8BD1-ACBC902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749-608A-42C7-9C8C-2EC94E981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dd P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helby Bu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3809880" y="15238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91" name="Freeform 4"/>
          <p:cNvSpPr/>
          <p:nvPr/>
        </p:nvSpPr>
        <p:spPr>
          <a:xfrm flipV="1">
            <a:off x="3886200" y="2590920"/>
            <a:ext cx="225360" cy="108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1523880" y="317664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Tsu-kun\AppData\Local\Microsoft\Windows\Temporary Internet Files\Content.IE5\1B3R9PBO\MCj04322350000[1].wmf"/>
          <p:cNvPicPr/>
          <p:nvPr/>
        </p:nvPicPr>
        <p:blipFill>
          <a:blip r:embed="rId3"/>
          <a:srcRect l="0" t="0" r="0" b="19325"/>
          <a:stretch/>
        </p:blipFill>
        <p:spPr>
          <a:xfrm>
            <a:off x="1655640" y="2438280"/>
            <a:ext cx="1219320" cy="1046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5867280" y="685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unhappy to se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4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25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666880" y="1219320"/>
            <a:ext cx="1832040" cy="2422440"/>
            <a:chOff x="2666880" y="1219320"/>
            <a:chExt cx="1832040" cy="2422440"/>
          </a:xfrm>
        </p:grpSpPr>
        <p:pic>
          <p:nvPicPr>
            <p:cNvPr id="97" name="Picture 2" descr="C:\Documents and Settings\sburton\Local Settings\Temporary Internet Files\Content.IE5\45HGRHJD\MCj04260060000[1].wmf"/>
            <p:cNvPicPr/>
            <p:nvPr/>
          </p:nvPicPr>
          <p:blipFill>
            <a:blip r:embed="rId1"/>
            <a:stretch/>
          </p:blipFill>
          <p:spPr>
            <a:xfrm>
              <a:off x="2666880" y="1219320"/>
              <a:ext cx="1832040" cy="24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Freeform 4"/>
            <p:cNvSpPr/>
            <p:nvPr/>
          </p:nvSpPr>
          <p:spPr>
            <a:xfrm flipV="1">
              <a:off x="2742840" y="2285280"/>
              <a:ext cx="225360" cy="10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990720" y="2590920"/>
            <a:ext cx="1882800" cy="3038400"/>
            <a:chOff x="990720" y="2590920"/>
            <a:chExt cx="1882800" cy="3038400"/>
          </a:xfrm>
        </p:grpSpPr>
        <p:grpSp>
          <p:nvGrpSpPr>
            <p:cNvPr id="100" name="Group 10"/>
            <p:cNvGrpSpPr/>
            <p:nvPr/>
          </p:nvGrpSpPr>
          <p:grpSpPr>
            <a:xfrm>
              <a:off x="990720" y="2590920"/>
              <a:ext cx="1882800" cy="3038400"/>
              <a:chOff x="990720" y="2590920"/>
              <a:chExt cx="1882800" cy="3038400"/>
            </a:xfrm>
          </p:grpSpPr>
          <p:pic>
            <p:nvPicPr>
              <p:cNvPr id="101" name="Picture 7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3809880"/>
                <a:ext cx="164808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3"/>
              <a:srcRect l="0" t="0" r="0" b="21734"/>
              <a:stretch/>
            </p:blipFill>
            <p:spPr>
              <a:xfrm>
                <a:off x="990720" y="259092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Freeform 11"/>
            <p:cNvSpPr/>
            <p:nvPr/>
          </p:nvSpPr>
          <p:spPr>
            <a:xfrm flipV="1">
              <a:off x="1828800" y="472392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12"/>
          <p:cNvSpPr/>
          <p:nvPr/>
        </p:nvSpPr>
        <p:spPr>
          <a:xfrm>
            <a:off x="609480" y="609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told her son to stop playing in the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forest-chinese.jpg"/>
          <p:cNvPicPr/>
          <p:nvPr/>
        </p:nvPicPr>
        <p:blipFill>
          <a:blip r:embed="rId4"/>
          <a:stretch/>
        </p:blipFill>
        <p:spPr>
          <a:xfrm>
            <a:off x="4648320" y="1981080"/>
            <a:ext cx="4343400" cy="4116600"/>
          </a:xfrm>
          <a:prstGeom prst="rect">
            <a:avLst/>
          </a:prstGeom>
          <a:ln w="0">
            <a:noFill/>
          </a:ln>
        </p:spPr>
      </p:pic>
      <p:sp>
        <p:nvSpPr>
          <p:cNvPr id="106" name="&quot;No&quot; Symbol 14"/>
          <p:cNvSpPr/>
          <p:nvPr/>
        </p:nvSpPr>
        <p:spPr>
          <a:xfrm>
            <a:off x="4800600" y="2057400"/>
            <a:ext cx="3809880" cy="396252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5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5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1219320" y="380988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3"/>
          <p:cNvSpPr/>
          <p:nvPr/>
        </p:nvSpPr>
        <p:spPr>
          <a:xfrm flipV="1">
            <a:off x="1828800" y="4724280"/>
            <a:ext cx="225360" cy="1080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7391520" y="914400"/>
            <a:ext cx="1482480" cy="1876320"/>
            <a:chOff x="7391520" y="914400"/>
            <a:chExt cx="1482480" cy="1876320"/>
          </a:xfrm>
        </p:grpSpPr>
        <p:pic>
          <p:nvPicPr>
            <p:cNvPr id="111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7391520" y="914400"/>
              <a:ext cx="14824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Freeform 7"/>
            <p:cNvSpPr/>
            <p:nvPr/>
          </p:nvSpPr>
          <p:spPr>
            <a:xfrm flipV="1">
              <a:off x="7980480" y="19281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Straight Arrow Connector 10"/>
          <p:cNvCxnSpPr/>
          <p:nvPr/>
        </p:nvCxnSpPr>
        <p:spPr>
          <a:xfrm flipH="1">
            <a:off x="2895120" y="1599120"/>
            <a:ext cx="37346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12"/>
          <p:cNvCxnSpPr/>
          <p:nvPr/>
        </p:nvCxnSpPr>
        <p:spPr>
          <a:xfrm flipH="1">
            <a:off x="3276000" y="2133720"/>
            <a:ext cx="381060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13"/>
          <p:cNvSpPr/>
          <p:nvPr/>
        </p:nvSpPr>
        <p:spPr>
          <a:xfrm>
            <a:off x="685800" y="609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tched the dog walk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orded Sound" descr=""/>
          <p:cNvPicPr/>
          <p:nvPr/>
        </p:nvPicPr>
        <p:blipFill>
          <a:blip r:embed="rId3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0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"/>
          <p:cNvGrpSpPr/>
          <p:nvPr/>
        </p:nvGrpSpPr>
        <p:grpSpPr>
          <a:xfrm>
            <a:off x="4114800" y="2666880"/>
            <a:ext cx="1482840" cy="1876680"/>
            <a:chOff x="4114800" y="2666880"/>
            <a:chExt cx="1482840" cy="1876680"/>
          </a:xfrm>
        </p:grpSpPr>
        <p:pic>
          <p:nvPicPr>
            <p:cNvPr id="118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4114800" y="2666880"/>
              <a:ext cx="148284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Freeform 3"/>
            <p:cNvSpPr/>
            <p:nvPr/>
          </p:nvSpPr>
          <p:spPr>
            <a:xfrm flipV="1">
              <a:off x="4703760" y="368064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4"/>
          <p:cNvSpPr/>
          <p:nvPr/>
        </p:nvSpPr>
        <p:spPr>
          <a:xfrm>
            <a:off x="762120" y="838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22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25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26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6" descr="C:\Documents and Settings\sburton\Local Settings\Temporary Internet Files\Content.IE5\30GCO75N\MCj04381690000[1].wmf"/>
              <p:cNvPicPr/>
              <p:nvPr/>
            </p:nvPicPr>
            <p:blipFill>
              <a:blip r:embed="rId3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4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5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Cloud Callout 9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0"/>
          <p:cNvSpPr/>
          <p:nvPr/>
        </p:nvSpPr>
        <p:spPr>
          <a:xfrm>
            <a:off x="365760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lost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33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C:\Documents and Settings\sburton\Local Settings\Temporary Internet Files\Content.IE5\45HGRHJD\MCj04260060000[1].wmf"/>
          <p:cNvPicPr/>
          <p:nvPr/>
        </p:nvPicPr>
        <p:blipFill>
          <a:blip r:embed="rId2"/>
          <a:stretch/>
        </p:blipFill>
        <p:spPr>
          <a:xfrm>
            <a:off x="6019920" y="990720"/>
            <a:ext cx="1831680" cy="2422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Tsu-kun\AppData\Local\Microsoft\Windows\Temporary Internet Files\Content.IE5\1B3R9PBO\MCj04348590000[1].png"/>
          <p:cNvPicPr/>
          <p:nvPr/>
        </p:nvPicPr>
        <p:blipFill>
          <a:blip r:embed="rId3"/>
          <a:stretch/>
        </p:blipFill>
        <p:spPr>
          <a:xfrm>
            <a:off x="3581280" y="1143000"/>
            <a:ext cx="17146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7"/>
          <p:cNvGrpSpPr/>
          <p:nvPr/>
        </p:nvGrpSpPr>
        <p:grpSpPr>
          <a:xfrm>
            <a:off x="2514600" y="4267080"/>
            <a:ext cx="3124080" cy="1852560"/>
            <a:chOff x="2514600" y="4267080"/>
            <a:chExt cx="3124080" cy="1852560"/>
          </a:xfrm>
        </p:grpSpPr>
        <p:pic>
          <p:nvPicPr>
            <p:cNvPr id="138" name="Picture 3" descr="C:\Documents and Settings\sburton\Local Settings\Temporary Internet Files\Content.IE5\Y39XOFVM\MCj04381670000[1].wmf"/>
            <p:cNvPicPr/>
            <p:nvPr/>
          </p:nvPicPr>
          <p:blipFill>
            <a:blip r:embed="rId4"/>
            <a:stretch/>
          </p:blipFill>
          <p:spPr>
            <a:xfrm>
              <a:off x="2514600" y="5041440"/>
              <a:ext cx="120528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:\Documents and Settings\sburton\Local Settings\Temporary Internet Files\Content.IE5\30GCO75N\MCj04381690000[1].wmf"/>
            <p:cNvPicPr/>
            <p:nvPr/>
          </p:nvPicPr>
          <p:blipFill>
            <a:blip r:embed="rId5"/>
            <a:stretch/>
          </p:blipFill>
          <p:spPr>
            <a:xfrm>
              <a:off x="4294080" y="4967640"/>
              <a:ext cx="133956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Tsu-kun\AppData\Local\Microsoft\Windows\Temporary Internet Files\Content.IE5\1B3R9PBO\MCj04322350000[1].wmf"/>
            <p:cNvPicPr/>
            <p:nvPr/>
          </p:nvPicPr>
          <p:blipFill>
            <a:blip r:embed="rId6"/>
            <a:srcRect l="0" t="0" r="0" b="19325"/>
            <a:stretch/>
          </p:blipFill>
          <p:spPr>
            <a:xfrm>
              <a:off x="2621520" y="4617360"/>
              <a:ext cx="99108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C:\Users\Tsu-kun\AppData\Local\Microsoft\Windows\Temporary Internet Files\Content.IE5\K2ZCTLF3\MCj04322650000[1].wmf"/>
            <p:cNvPicPr/>
            <p:nvPr/>
          </p:nvPicPr>
          <p:blipFill>
            <a:blip r:embed="rId7"/>
            <a:srcRect l="0" t="0" r="0" b="21734"/>
            <a:stretch/>
          </p:blipFill>
          <p:spPr>
            <a:xfrm>
              <a:off x="4108320" y="4267080"/>
              <a:ext cx="1530360" cy="7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Box 12"/>
          <p:cNvSpPr/>
          <p:nvPr/>
        </p:nvSpPr>
        <p:spPr>
          <a:xfrm>
            <a:off x="266688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asked the mother dog to let her play with he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8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5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133720" y="6094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ther dog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147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orded Sound" descr=""/>
          <p:cNvPicPr/>
          <p:nvPr/>
        </p:nvPicPr>
        <p:blipFill>
          <a:blip r:embed="rId3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1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2514600" y="3352680"/>
            <a:ext cx="3581280" cy="2766960"/>
            <a:chOff x="2514600" y="3352680"/>
            <a:chExt cx="3581280" cy="2766960"/>
          </a:xfrm>
        </p:grpSpPr>
        <p:pic>
          <p:nvPicPr>
            <p:cNvPr id="150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2514600" y="4509360"/>
              <a:ext cx="1381680" cy="161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4554360" y="4398840"/>
              <a:ext cx="1535400" cy="156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2637360" y="3875760"/>
              <a:ext cx="113616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4341600" y="3352680"/>
              <a:ext cx="1754280" cy="11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2" descr="C:\Documents and Settings\sburton\Local Settings\Temporary Internet Files\Content.IE5\45HGRHJD\MCj04260060000[1].wmf"/>
          <p:cNvPicPr/>
          <p:nvPr/>
        </p:nvPicPr>
        <p:blipFill>
          <a:blip r:embed="rId5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55" name="&quot;No&quot; Symbol 7"/>
          <p:cNvSpPr/>
          <p:nvPr/>
        </p:nvSpPr>
        <p:spPr>
          <a:xfrm>
            <a:off x="2438280" y="4800600"/>
            <a:ext cx="1295640" cy="11430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371600" y="609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idn’t want her son playing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orded Sound" descr=""/>
          <p:cNvPicPr/>
          <p:nvPr/>
        </p:nvPicPr>
        <p:blipFill>
          <a:blip r:embed="rId6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45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59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60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5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3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4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4" name="Cloud Callout 3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C:\Documents and Settings\sburton\Local Settings\Temporary Internet Files\Content.IE5\30GCO75N\MCj04381690000[1].wmf"/>
          <p:cNvPicPr/>
          <p:nvPr/>
        </p:nvPicPr>
        <p:blipFill>
          <a:blip r:embed="rId5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266688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nted to play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orded Sound" descr=""/>
          <p:cNvPicPr/>
          <p:nvPr/>
        </p:nvPicPr>
        <p:blipFill>
          <a:blip r:embed="rId6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5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Tsu-kun\AppData\Local\Microsoft\Windows\Temporary Internet Files\Content.IE5\A3UJDGGF\MCj04135000000[1].wmf"/>
          <p:cNvPicPr/>
          <p:nvPr/>
        </p:nvPicPr>
        <p:blipFill>
          <a:blip r:embed="rId2"/>
          <a:stretch/>
        </p:blipFill>
        <p:spPr>
          <a:xfrm>
            <a:off x="2133720" y="1981080"/>
            <a:ext cx="1226880" cy="172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sburton\Local Settings\Temporary Internet Files\Content.IE5\45HGRHJD\MCj0426006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200400" y="4648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mom he would run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orded Sound" descr=""/>
          <p:cNvPicPr/>
          <p:nvPr/>
        </p:nvPicPr>
        <p:blipFill>
          <a:blip r:embed="rId4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4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burton\Local Settings\Temporary Internet Files\Content.IE5\Y39XOFVM\MCj04381670000[1].wmf"/>
          <p:cNvPicPr/>
          <p:nvPr/>
        </p:nvPicPr>
        <p:blipFill>
          <a:blip r:embed="rId1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90720" y="533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3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sburton\Local Settings\Temporary Internet Files\Content.IE5\GRBJJYRJ\MCj04381270000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816200" cy="78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971800" y="2590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ecided he could stay friends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orded Sound" descr=""/>
          <p:cNvPicPr/>
          <p:nvPr/>
        </p:nvPicPr>
        <p:blipFill>
          <a:blip r:embed="rId4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55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1" descr=""/>
          <p:cNvPicPr/>
          <p:nvPr/>
        </p:nvPicPr>
        <p:blipFill>
          <a:blip r:embed="rId1"/>
          <a:stretch/>
        </p:blipFill>
        <p:spPr>
          <a:xfrm>
            <a:off x="1365120" y="311040"/>
            <a:ext cx="6888240" cy="53150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1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sburton\Local Settings\Temporary Internet Files\Content.IE5\GRBJJYRJ\MCj04381270000[1].wmf"/>
          <p:cNvPicPr/>
          <p:nvPr/>
        </p:nvPicPr>
        <p:blipFill>
          <a:blip r:embed="rId1"/>
          <a:stretch/>
        </p:blipFill>
        <p:spPr>
          <a:xfrm>
            <a:off x="3664080" y="3038400"/>
            <a:ext cx="1815840" cy="781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60020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ha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-5335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3747960" y="2519280"/>
            <a:ext cx="1648080" cy="1819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9320" y="1066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friend was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burton\Local Settings\Temporary Internet Files\Content.IE5\Y39XOFVM\MCj04363260000[1].png"/>
          <p:cNvPicPr/>
          <p:nvPr/>
        </p:nvPicPr>
        <p:blipFill>
          <a:blip r:embed="rId1"/>
          <a:stretch/>
        </p:blipFill>
        <p:spPr>
          <a:xfrm>
            <a:off x="1523880" y="2438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19810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’s mother did not like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6324480" y="3581280"/>
            <a:ext cx="1524240" cy="1683000"/>
          </a:xfrm>
          <a:prstGeom prst="rect">
            <a:avLst/>
          </a:prstGeom>
          <a:ln w="0">
            <a:noFill/>
          </a:ln>
        </p:spPr>
      </p:pic>
      <p:sp>
        <p:nvSpPr>
          <p:cNvPr id="64" name="&quot;No&quot; Symbol 6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6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133720" y="6094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’s mother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69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3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apnaavenue.com/wp-content/uploads/cat_hugging_dog.jpg"/>
          <p:cNvPicPr/>
          <p:nvPr/>
        </p:nvPicPr>
        <p:blipFill>
          <a:blip r:embed="rId2"/>
          <a:srcRect l="7113" t="13377" r="12887" b="9032"/>
          <a:stretch/>
        </p:blipFill>
        <p:spPr>
          <a:xfrm>
            <a:off x="228600" y="26668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676520" y="6094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ir often played in the fores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orded Sound" descr=""/>
          <p:cNvPicPr/>
          <p:nvPr/>
        </p:nvPicPr>
        <p:blipFill>
          <a:blip r:embed="rId3"/>
          <a:stretch/>
        </p:blipFill>
        <p:spPr>
          <a:xfrm>
            <a:off x="-4572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1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3830760" y="1143000"/>
            <a:ext cx="3843360" cy="3224160"/>
            <a:chOff x="3830760" y="1143000"/>
            <a:chExt cx="3843360" cy="3224160"/>
          </a:xfrm>
        </p:grpSpPr>
        <p:pic>
          <p:nvPicPr>
            <p:cNvPr id="75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3830760" y="249084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6019920" y="236196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3962520" y="175248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5791320" y="114300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5"/>
          <p:cNvSpPr/>
          <p:nvPr/>
        </p:nvSpPr>
        <p:spPr>
          <a:xfrm>
            <a:off x="533520" y="1066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s a princess and the dog was a pr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5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45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705720" y="1066680"/>
            <a:ext cx="1831680" cy="24228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"/>
          <p:cNvSpPr/>
          <p:nvPr/>
        </p:nvSpPr>
        <p:spPr>
          <a:xfrm>
            <a:off x="6781680" y="2133720"/>
            <a:ext cx="211320" cy="14580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1066680" y="1905120"/>
            <a:ext cx="3843360" cy="3224160"/>
            <a:chOff x="1066680" y="1905120"/>
            <a:chExt cx="3843360" cy="3224160"/>
          </a:xfrm>
        </p:grpSpPr>
        <p:pic>
          <p:nvPicPr>
            <p:cNvPr id="84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1066680" y="325296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C:\Documents and Settings\sburton\Local Settings\Temporary Internet Files\Content.IE5\30GCO75N\MCj04381690000[1].wmf"/>
            <p:cNvPicPr/>
            <p:nvPr/>
          </p:nvPicPr>
          <p:blipFill>
            <a:blip r:embed="rId3"/>
            <a:stretch/>
          </p:blipFill>
          <p:spPr>
            <a:xfrm>
              <a:off x="3255840" y="312408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" descr="C:\Users\Tsu-kun\AppData\Local\Microsoft\Windows\Temporary Internet Files\Content.IE5\1B3R9PBO\MCj04322350000[1].wmf"/>
            <p:cNvPicPr/>
            <p:nvPr/>
          </p:nvPicPr>
          <p:blipFill>
            <a:blip r:embed="rId4"/>
            <a:srcRect l="0" t="0" r="0" b="19325"/>
            <a:stretch/>
          </p:blipFill>
          <p:spPr>
            <a:xfrm>
              <a:off x="1198440" y="251460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" descr="C:\Users\Tsu-kun\AppData\Local\Microsoft\Windows\Temporary Internet Files\Content.IE5\K2ZCTLF3\MCj04322650000[1].wmf"/>
            <p:cNvPicPr/>
            <p:nvPr/>
          </p:nvPicPr>
          <p:blipFill>
            <a:blip r:embed="rId5"/>
            <a:srcRect l="0" t="0" r="0" b="21734"/>
            <a:stretch/>
          </p:blipFill>
          <p:spPr>
            <a:xfrm>
              <a:off x="3027240" y="190512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10"/>
          <p:cNvSpPr/>
          <p:nvPr/>
        </p:nvSpPr>
        <p:spPr>
          <a:xfrm>
            <a:off x="457200" y="762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, the dog’s mother fou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6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1:18Z</dcterms:created>
  <dc:creator>itsuser</dc:creator>
  <dc:description/>
  <dc:language>en-US</dc:language>
  <cp:lastModifiedBy>Tsu-kun</cp:lastModifiedBy>
  <dcterms:modified xsi:type="dcterms:W3CDTF">2009-03-17T02:53:09Z</dcterms:modified>
  <cp:revision>8</cp:revision>
  <dc:subject/>
  <dc:title>Slide 1</dc:title>
</cp:coreProperties>
</file>